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C4255-9F40-4990-A034-CE91297E9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07615-6E81-4148-959E-9BCB14049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33CDD-1E42-4068-AD85-951F6ABD5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DC72C-D6C0-4324-81DB-37113584D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1BF3A-94C9-4922-8ED3-5CD1FFA48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104F0-A71F-4E1F-B838-58C099015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83CBD-A2ED-42EB-9A7F-33AB86D1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2F977-AEA3-49BB-B238-00A8C78F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4B77-C8A9-49EC-ACDB-106249ED5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D81579-0B2B-42AE-BF11-92FAD0775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A29AB-062E-4D21-AE3B-43F5B43D9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6463B-D068-46DE-8BB4-4F76F66F1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099B7-5058-4595-A512-11877334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1D95C-867C-49B1-9BF9-C23499E15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8CA23-B856-406C-8270-0E1B46CF8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F9EF5-5BB9-4742-B1B0-6FD70A87B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9D717-D826-4804-AADD-999FCECF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62F9E-463C-4CAB-BC68-5485C1995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62A1CE-2D3F-4325-9DEB-168BF1979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A0800C-808F-43EA-9DC3-1F862E8A3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CA6155-069D-4F39-9997-42C24EDE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1B3CBD-E145-4B1E-B0D6-0AE3D9794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E9339-7132-422F-9559-DB8DA6C73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4E41C4-0B90-4B8C-B043-1EAD72642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0449B7-BE7A-446F-9039-5AC758984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2C19D2-CCE2-4F9B-B720-70CFBC675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871279-CF5B-4587-A244-873C6585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B6AEA0-10C3-40D4-919B-DCD6C7BA4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9AB3C-9488-47DE-9EF9-C352F8278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06F524-16CF-4837-97B6-04B44C649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D7494A-7548-4BF2-A8D3-05138E6C7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185A0C-68DE-4E65-994F-6C1AF357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2D5D24-72F4-40BA-9315-B5AE4A1F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0A749-7EF0-45F0-A43D-4DD7116B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3DA41B-3C2A-4E82-9B92-A3C7DE86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605B22-8DC7-486C-8E0C-4289949FB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6FB9AC-496F-4397-8A92-E8F583892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9B6CF4-318D-498E-A872-C91266B47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223A41-F3D7-4870-9FF4-B4CA7DA96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EA8FDC-215A-46AF-AC0A-44F92AD6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241DCE-F34D-4A5D-BC0D-9366DFB16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FACB19-1171-4697-8B73-97EC96CAD4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D7C081-0FE9-46CA-BEBF-CCACF7894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29BD3F-FB6A-433A-AD64-2FEBB3E9F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DF6BC-A385-4BED-B261-BAA039037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0B8C10-1EC3-402C-9879-06D25C011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1C9CC-E7D6-426A-B5CC-21CF28B8C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DA0C-E9C8-47A4-BD8E-06846096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B7E5A7-6369-4163-8895-06A0E03C3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296C0D-6843-47FF-ABD6-FE7BDD620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E3EF15-D705-4F8D-933B-CC98B8055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326D65-CE2A-4268-9130-78D20E074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CC5BB8-17A3-4B3F-A576-6640F166B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CC7916-E04F-4864-8D93-38618F950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600AB4-4F35-4DB8-81F3-E4FB6A157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395E9-9E69-4378-912F-563B503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CA4C8-13E7-409E-8BD1-D7330AA57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6D211E-C6A4-4456-BB9A-9AD21488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7D430B-6123-45E4-9A8E-72BED56F9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B2B7E-2F6D-43FE-8D77-9CE29E066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40429D-C3A7-4C17-9DCE-8AAFCE693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85945-F041-4DE4-81B3-FAE67D976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10B5402-C8C0-450D-929E-54E55326C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2D4DAC-C7D1-4CFE-9A72-1476745D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CB7609-D1DA-4253-8F3D-2E45CBCAB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C2DF94-FB55-48BD-8843-35F2D784A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14832-8B06-4665-B1D0-7B7665687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CC0F20C-2C22-4C8A-BD18-B0F4277B3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8C5BBD-F6F2-48BD-88C4-AA3BF090C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6449F6-849E-4A5D-98E1-5CD74DAD2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9898DE-6008-4A0A-85A3-CA9A32DF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53CF64-72CA-4919-9E76-5556264D2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7EE03B-1C81-47A1-8308-B3DE479ED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33204E-6F39-4EDE-9FEA-8B787751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BFA110-D0C4-4B8C-94B1-7D89B8DF0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321032-5BEF-4816-8093-F3DF0E1C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0569BB-2E24-4849-9A9D-C77619F23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50A-3744-4054-94C3-304E9E47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7E9175-7700-4F90-9F94-8E4637785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B6BB2A-97AA-4D65-8073-409D6F7E1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C0E9E0-A978-48FE-9D9A-83C90E50E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D5B9EB5-58CD-4C5E-BDBC-F02E955988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AE8BDF-13AC-42F9-A92B-40A865D6D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D514-C75C-4196-9D25-08E0C6C8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1E35E-8306-48D4-A367-8D3617445D8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4CCDE-BBE8-4E45-98EC-F0A61F9324DC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C6B2C-5467-4B06-9DEF-DAE8B71517B3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C0E2-8A3A-40C7-88D0-244EACEAA478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BCB9B-C63D-4787-8826-10FF36618D3C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8D6CD-87C3-4C48-8C62-C24BA6181C30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AA4B-39FC-4B99-A9CA-53F2944668D3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規定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〈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草案</a:t>
            </a:r>
            <a:r>
              <a:rPr b="1" lang="en-US" sz="4000" spc="-1" strike="noStrike">
                <a:solidFill>
                  <a:srgbClr val="000000"/>
                </a:solidFill>
                <a:latin typeface="Candara"/>
              </a:rPr>
              <a:t>〉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395280" y="2565000"/>
            <a:ext cx="856944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本規定依新北市國民中學及高級中等學校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實施要點第五點第七項規定訂定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新北市立金山高級中等學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下簡稱本校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鼓勵學校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85672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發現同學衝突，未立即向師長報告，現場圍觀鼓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具有相當於以上各目不良行為之一，合於記小過者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定期考試或重大試場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幫派等不良組織或出入賭場等違法或不當場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所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無照駕駛汽機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入侵學校或公共網路進行資料竊取、竄改或刪改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，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暴力傷害他人或以強暴、脅迫、恐嚇等手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段勒索他人財物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56320" indent="-2563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920" y="333000"/>
            <a:ext cx="864216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有惡意侮辱、謾罵等言語上攻擊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網路使用或智慧財產權相關法令規定，影響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校譽情節重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師長或他人為性騷擾行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偷竊行為情節重大，且不知悔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酗酒、賭博、吸菸、吸食或注射麻醉品，屢誡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改且影響校園安全或環境衛生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就寢後不假外出或未經許可異性寢室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34360" indent="-23436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323640" y="260280"/>
            <a:ext cx="856908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款之不良行為之一，合於記大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輔導管教目的所為之其他適當懲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  報  完  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 marL="223560" indent="-22356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  請  指  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0" y="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服裝儀容經常整潔，合於規定，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禮儀周到足為同學模範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生活言行學業較前進步，有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拾獲有相當價值之財物不昧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與同學互助合作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能主動扶助尊長、老弱婦孺，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公物有具體事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主動為公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領導同學為團體服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善盡職責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體育運動具有運動精神、運動道德，表現優良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250560" y="189000"/>
            <a:ext cx="878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與校內活動確有成績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校外活動表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行為誠正，有具體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倡導正當課餘活動成績優良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見義勇為能維護團體或同學權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敬老扶弱，有顯著之事實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種服務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熱心公益活動，有具體表現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維護團體秩序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各級幹部滿一學期，且負責盡職表現優異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0" y="189000"/>
            <a:ext cx="91440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市級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愛護學校或同學，確有特殊事實表現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優良建議，並能率先力行，增進校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參加各項服務，表現卓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表學校參加政府主管單位主辦全國性以上競賽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成績特優或第一名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優良行為之一，合於記大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五）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37680"/>
            <a:ext cx="8229600" cy="597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行為不當且情節輕微者，應予糾正，並採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取適當之輔導與管教措施。學校採取適當之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導與管教措施而無效果時，得視學生違規情節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曠課累計達四節課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  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無正當理由，遲到未實施站立反省累計達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次者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規定時間繳交作業，經催繳仍未改善者。</a:t>
            </a: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 txBox="1"/>
          <p:nvPr/>
        </p:nvSpPr>
        <p:spPr>
          <a:xfrm>
            <a:off x="250920" y="260280"/>
            <a:ext cx="86421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依校園行動電話使用規則違規使用手機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交通規則或被無照駕駛同學載乘者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違反服裝儀容規定或內務不整潔，經勸告仍不改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塗改或冒用師長名義於點名簿、請假單、成績單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其他資料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團體清潔工作不盡職，經勸告仍不改正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擔任班級幹部敷衍塞責，嚴重影響工作推展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攜帶或公開刀械等違禁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如兒童及少年福利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權益保障法第四十三條所 揭禁止行為所列之物品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集會無故不參加或中途離開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72880" indent="-27288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欺騙師長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68360" y="1052280"/>
            <a:ext cx="8229600" cy="5322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環境衛生情節輕微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因過失造成公物毀損，未能主動報告尋求解決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對他人不當侵犯隱私、言語或態度上騷擾有具體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事實者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未經同意借取或占有他人財物，有明確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作品抄襲經他人檢舉，有具體事實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走廊、樓梯、教室內從事奔跑、球類運動或其  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他行為危及他人安全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上課、團體活動或集會時不當行為影響秩序者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在公共場所或乘坐大眾運輸工具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校車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影響秩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序，不遵守團體規範者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0" y="260280"/>
            <a:ext cx="88200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73e87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禮貌不周，經勸導後仍不知改正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2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聽班級幹部勸告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具有相當於以上各目之不良行為之一，合於記警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一學期中再犯前款之規定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假離校外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課堂平時考試舞弊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冒用他人名義致損及他人隱私或權益，有具體事實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提供自己或他人使用兒童及少年福利與權益保障法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第四十三條所揭禁止行為所列之物品。</a:t>
            </a:r>
            <a:r>
              <a:rPr b="0" lang="zh-TW" sz="2800" spc="-1" strike="noStrike">
                <a:solidFill>
                  <a:srgbClr val="073e87"/>
                </a:solidFill>
                <a:latin typeface="Candara"/>
              </a:rPr>
              <a:t>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2640" indent="-24264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破壞公物或公告物品，影響校園工作推展或安全維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護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以肢體行為侵犯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8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於公開場域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含網路公共空間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張貼散布不實言論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不雅字眼，攻擊或毀謗他人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9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竊取他人財物，有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0.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蓄意聚眾，對師長或他人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同儕、校外人士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有不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侵犯隱私、言語或態度上騷擾之具體事實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1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不服從糾察交通服務隊或經班級幹部糾正不聽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2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師長同意私自進入學校管制處所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13.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住宿生違反宿舍規定者。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〈</a:t>
            </a:r>
            <a:r>
              <a:rPr b="0" lang="zh-TW" sz="2800" spc="-1" strike="noStrike">
                <a:solidFill>
                  <a:srgbClr val="c00000"/>
                </a:solidFill>
                <a:latin typeface="Candara"/>
              </a:rPr>
              <a:t>經教育局審核通過</a:t>
            </a:r>
            <a:r>
              <a:rPr b="0" lang="en-US" sz="2800" spc="-1" strike="noStrike">
                <a:solidFill>
                  <a:srgbClr val="c00000"/>
                </a:solidFill>
                <a:latin typeface="Candara"/>
              </a:rPr>
              <a:t>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marL="240120" indent="-240120">
              <a:spcBef>
                <a:spcPts val="700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30:06Z</dcterms:modified>
  <cp:revision>33</cp:revision>
  <dc:subject/>
  <dc:title>新北市立金山高中101年校務會議學務處提案1─教師輔導與管教學生辦法</dc:title>
</cp:coreProperties>
</file>